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95D-2298-4FA2-A69A-C7B55085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9AA-6A54-4662-BE78-73FAE5FD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66CD2-5EF5-4403-9B96-5CFEBB5F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A42C-74BD-49AA-BB2F-E6C56003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7A32E-CFAA-493D-8800-908B2BDE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0F42A-0B71-488F-8BB6-35C4AA3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74536-4FB0-44AD-B697-9293F4B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6670B-493C-426D-9C5E-1853785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B4861-BA7D-4872-8D11-32529A12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4268B-6663-4D80-AEC1-FDEA4FE7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F2E50-97EC-4112-BB22-092BA59D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AC214-C869-4F01-8119-201DE642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F4B-0391-4E66-B4B6-46141AF7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1378E-539E-4930-9D75-EDB98CE0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0F1C8-AF35-42C8-BD37-C450D9A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D5539-F5EB-448F-9C5E-BDA95E4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E0BD0-C0E1-4B38-A6A9-BC36123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ABE7-BE64-4BA7-9632-5B49CD4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B0491-E5A3-42D8-97EA-8C110FE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66FC-D4C2-47DA-AD68-359C11CB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FE8F9-96AD-4D8C-A106-DE31C5D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45C5D-8D0B-43BE-BC00-9F136ECD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BC178-AB91-4931-BD47-5EE5902B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6D6-2A8F-4BD8-92F7-1FD31D9B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8FB81-E205-4815-ACC9-607714C5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99267-B275-4018-B8A5-5902CBA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860C6-2064-4F45-AC96-F766C5E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D8C1E-707F-49E8-8992-B252A954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8CB62-E4B2-4743-9793-A5F1FFD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77902-5E3A-4767-8783-7280A5E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34453-A8DB-49DA-95F9-749A96D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8B9D1-2C95-4BB7-BACA-0ED43E5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36E70-ACEF-4C14-9B48-57F4F02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17EB5-E3E8-45B2-A185-90DB306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63DF-9D93-4DC0-B69E-CE4FB64B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DD7D4-6059-42B5-B436-150B767B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E7547-1CB3-4F4C-AFE3-ABDF1E7D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A004-F6D2-48FF-8EAD-8642CB3F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B2A4-2A7C-4742-8DCC-995255C5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551B0-E452-487E-8EC5-152EE49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5785-E32E-457B-96E5-8C9B664A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21AAB-35A4-4C4D-8803-0939A19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5B92A-C97F-481D-8CC3-57216636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E5600-B78A-4AA1-8BD4-92A73BC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100BA-20DC-4ABA-9FA3-F96803F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BE2-4C7A-40F1-9474-85D8DB5D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252EE-D84A-4E15-A82D-F104A9A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462B9-0A9F-490F-A64A-27B7E8B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677B6-5090-4BCD-A6AB-920BA2B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DA1C4-CDA8-4538-9989-6D35737F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01E31-9675-42B7-8814-254BC08E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DCCFE-A29A-4965-94CB-31CFA2FF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7FDC7-A0AE-4D0D-A7E9-4490DBA3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2A353-08F9-47AB-A37E-DC6ACF4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AA949-2579-4F46-87D4-ED8BBAFA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636E6-F0FB-4AAA-9FFA-D09716A4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DE88-36E7-456F-90AF-C4C56DF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3CB22-9FF6-4EB3-9A64-22E56D49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DAD30-7319-45C1-B64C-3174B1E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9E8ED-EEE0-4ED2-ABE6-C7822A9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EF195-B43C-4FDA-A070-666B569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7A43C-AD78-423A-84EA-799D214B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94916-56B9-4CFC-81CE-22953E7E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0814F-CE02-4BA0-B5C4-2A14E07E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2E120-E200-4E16-82FC-1554A8E5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4E4A3-ECC9-443B-A2A7-C2601BE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B4D6D-15CE-45D8-81AB-F95DFC7E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B836-6B3F-4BCB-BC13-54AF43D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4AB5D-E372-4DAA-8FB9-5523098F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2492A-B3F6-4792-A0D0-0EB60E74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643FE-6DE4-43BE-9B07-D0992752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8952B-66DA-4B34-8729-2C2179F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77D57-2C92-4738-8D89-FCF522E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ED848-3728-429F-89EC-DB642320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DE85A-BCA6-4BDB-B1B2-61F08B0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61D60-6A6E-466A-8F58-5867B1FA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3AE9B-0B07-40F5-828D-40BB0882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AFD89-F40A-4A00-90EB-328D89FB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9F69-6478-4677-A1AC-A07998C5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3BED8-3367-4E25-8A1D-B9DD0CA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3C0C5-E592-4915-B794-C8AFF3EB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62B3B-02A9-4F72-A4AA-1B184EDB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A1E93-E50A-4DB4-93F4-4C9EF40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D966B-831C-4EDC-BA65-60D7A1C5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EB97B-C28F-4F62-A5D0-1F4798D1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E95E0-82E0-4EDD-B1C1-8A17ED3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A6C88-2491-4266-8E59-315A639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38C06-01B9-4136-98E4-F337AF60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D81D1-A1B7-4198-AA30-8E5A0CF8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6580-CC7F-495C-BF7A-4A02A32E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EB4FD-F047-4D09-A644-0216A7AE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0938-D4DA-4D7C-B17D-7D457BD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218-DB03-43D4-B26A-F5298DD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8F96-7DB1-44A4-8EDF-CAB4E84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1731-13D3-458B-B458-4D3BEAD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580F-2968-45C5-99F7-6ABDB36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4A0-BBD0-4EDD-951B-DD7DC92C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453-F99F-4792-936F-3FB57DBA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73A0-0699-4A53-B523-B7ADE2D9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2965-0251-4F5C-A222-E40BD963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375D-1567-42DB-B85C-58C6917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2EBB-3EC1-47E8-BBD0-F3551BC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AFF0-E98B-4EB7-9ABB-6CC4192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845-5A6D-428C-8413-9EDE8157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86FE0-7E59-4E45-A898-F718314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DDBC-07CA-4FC0-ADCA-3029D1BC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770F-7AAE-4BDC-8040-655CE13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2DF2-F51A-48F8-86C5-FF288D0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8FA3-6856-4200-A0AD-588AC9D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A8C1-DDD0-44AB-8B11-10297BCA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4587-B142-4D53-8D7B-B29EC0E8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5C6C-EF6D-45B0-A143-55421330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8121-8B2C-4816-86F1-B7F6436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750F-A3A6-4832-AA23-9D801558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5DF-7B1D-4F9D-BC3D-E08CA83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BAA9-72EE-4DBF-A7C4-8240A657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10F8-F416-4BC6-81CB-845DF96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B1A6-31C7-477F-B349-E36FA81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9676-0A61-4AD2-A662-DDED034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F994-FDA0-4E46-B431-49E428E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828B-22DA-4826-ABDF-E307F3F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6E87-85F8-4BF4-89DA-DF46154B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EC10-F79A-4F4E-A26D-79C80C4A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79D6-5868-4CA3-B841-83E29D94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1809-716A-41AD-BBBD-048BFFC7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89F-21D1-4955-ADD1-F723BB5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4DB1-45B3-4B38-B006-2F21A3CB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DA06-C08C-4652-922F-01246FF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BC4A-C86E-4474-A814-D46EEC0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68D7-F4E4-43BD-86CA-C864BBA6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95D0-6ACC-4A60-9591-23BF225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FAEB-9718-4D56-972D-34A26C3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3E5A-B682-46E3-9F30-EE3350A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5542-6C98-4155-930F-4FAC8B8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8522-D94F-48A2-A8A1-A64613B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B451-55AF-45D7-B59F-2A1C734A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6ED-18F7-42E3-9F5A-1B33F8B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174B-692A-49C2-9F16-39A214E1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F0D0E-20EA-4A87-87C1-E70D6F4D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2BB4-82AB-4DA4-83C5-5C2A3D6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6B48-69C6-4DD8-AF2B-763DD5A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A6D56-5861-4D54-94EB-D3423568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3120-53E1-40EA-995B-8AF5CD7D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D978-7171-4800-A061-F964C18A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D926-2923-446C-A27F-AE0F7354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EA41-67F1-49C7-8969-25E544A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644A-440C-4AB0-BF24-7D04A86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93A-4212-4FBA-A3E4-A2691B6D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B8E0-1A4D-418B-9188-82B4FE0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40E70-7DB6-4CA1-B1CD-2EF3058B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9CD6-1277-429D-9DA0-2600512B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173F-10F8-460F-8BCA-3DE7F419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653E-64A1-4913-9257-833AA10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3E95-EDAE-4C0F-A35E-F12EE69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B2B7-8676-4A99-8BF9-E6D3B473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482B-F76A-477C-A5FE-DA60BCFC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F1B4-4C2C-402C-8185-0B12D685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088C-04CF-46F1-A078-4E6E1698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5FD-0713-445B-A14D-DE1EF63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08D8-C3E2-46A9-AD4C-6247C16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7EC6-B1B9-41F2-98B2-DFCD7B6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06013-D43B-4A3F-8ECB-51FAF1C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DD927-141A-491E-9E73-CB7BB4D0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C7C9-76AD-4A71-A447-A19EAA41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A7BC-7225-4DBE-9AEA-69A669AD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A559F-44B7-4064-B089-FEFE07A8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B445-5762-498D-B280-6997B2E2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8EEA-473F-4014-ADE9-57507719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121BE-9680-4412-B3C3-E64EEFB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99D-3D4F-40D0-8E05-25EE6EB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9723-7301-427B-A79B-04C887D3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2F080-1B42-49C8-B163-89F20EA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4C3A-D741-4DED-BA61-686A7FD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6E3EC-9078-49A5-A941-495E6A4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58B4-AD04-4351-8D9A-37607E1D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AFF2-1678-41BB-89EF-6D78A187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4A26-5833-48E5-A9C0-23DD337B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621D1-0113-4FA4-9282-5ACDA17D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811D-A8B9-4BCB-82E8-D53671A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00859-951C-4C76-A31E-0514D13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2D2B-516E-42D2-BE37-2175776C7083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203-AE7B-4062-9222-BA94F015B538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998D-3875-4A26-AFA1-6553C945221F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0039-7F50-47BF-959F-56020EBE1812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6EFB-91CE-4191-8D70-356BA8BA4FD9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995-3FE8-4739-9A24-0AD34EDBB4AE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F5F-0379-4239-8ABC-64E6F6B9666F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1dedf"/>
              </a:gs>
              <a:gs pos="100000">
                <a:srgbClr val="bace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DC2C-ECFD-4055-A0A0-D93C074A6852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459-A0B7-4DAC-9C03-7B3029EE2C93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edc1b6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D46-E417-4588-8CD6-D0880FAE1664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64E3-58F7-4F23-B525-332FDB862B97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7BE4-71D2-42B4-945C-BB343EE66E80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B1C-062A-449A-BC8D-6B991FF2202C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F4A7-4190-4FD9-9EC1-08BF1870EEFC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06F-C88B-4206-B519-9CA4100942E8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0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19320" y="1371600"/>
            <a:ext cx="7238880" cy="182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Gill Sans MT"/>
              </a:rPr>
              <a:t>        </a:t>
            </a:r>
            <a:r>
              <a:rPr b="0" lang="ro-RO" sz="9600" spc="-1" strike="noStrike">
                <a:solidFill>
                  <a:srgbClr val="ff0000"/>
                </a:solidFill>
                <a:latin typeface="Gill Sans MT"/>
              </a:rPr>
              <a:t>M6</a:t>
            </a:r>
            <a:endParaRPr b="0" lang="en-US" sz="9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000" spc="-1" strike="noStrike">
              <a:solidFill>
                <a:srgbClr val="c5d1d7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o-RO" sz="3200" spc="-1" strike="noStrike">
                <a:solidFill>
                  <a:srgbClr val="e3a192"/>
                </a:solidFill>
                <a:latin typeface="Gill Sans MT"/>
              </a:rPr>
              <a:t>Le  programme sont 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ill Sans MT"/>
              </a:rPr>
              <a:t>-comedi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ill Sans MT"/>
              </a:rPr>
              <a:t>-dram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ac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divertis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LA  FRANCE  A  UN  INCOROYABLE  TAL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648320" y="1752120"/>
            <a:ext cx="403848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7" name="Picture 7" descr="C:\Users\Elev\Desktop\27813_10150177710080277_422256495276_12562052_2473026_n.jpg"/>
          <p:cNvPicPr/>
          <p:nvPr/>
        </p:nvPicPr>
        <p:blipFill>
          <a:blip r:embed="rId1"/>
          <a:stretch/>
        </p:blipFill>
        <p:spPr>
          <a:xfrm>
            <a:off x="4819680" y="1525680"/>
            <a:ext cx="4343400" cy="5332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" descr="C:\Users\Elev\Desktop\La-France-a-un-incroyable-talent.jpg"/>
          <p:cNvPicPr/>
          <p:nvPr/>
        </p:nvPicPr>
        <p:blipFill>
          <a:blip r:embed="rId2"/>
          <a:stretch/>
        </p:blipFill>
        <p:spPr>
          <a:xfrm>
            <a:off x="36360" y="1523880"/>
            <a:ext cx="4800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INFORMATIONS GENERAL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0" name="Rectangle 4" descr=""/>
          <p:cNvPicPr/>
          <p:nvPr/>
        </p:nvPicPr>
        <p:blipFill>
          <a:blip r:embed="rId1"/>
          <a:stretch/>
        </p:blipFill>
        <p:spPr>
          <a:xfrm>
            <a:off x="176040" y="1420920"/>
            <a:ext cx="4395960" cy="536400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2" name="Picture 1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25606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"/>
          <p:cNvPicPr/>
          <p:nvPr/>
        </p:nvPicPr>
        <p:blipFill>
          <a:blip r:embed="rId3"/>
          <a:stretch/>
        </p:blipFill>
        <p:spPr>
          <a:xfrm>
            <a:off x="4495680" y="3780000"/>
            <a:ext cx="46483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Gill Sans MT"/>
              </a:rPr>
              <a:t>                  </a:t>
            </a:r>
            <a:r>
              <a:rPr b="0" lang="en-US" sz="5400" spc="-1" strike="noStrike">
                <a:solidFill>
                  <a:srgbClr val="0070c0"/>
                </a:solidFill>
                <a:latin typeface="Gill Sans MT"/>
              </a:rPr>
              <a:t>SERIAL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52280" y="167652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 MT"/>
              </a:rPr>
              <a:t>Le film ,,Que  va-t-il se passer  mardi soir?”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 rot="327000">
            <a:off x="7432200" y="769680"/>
            <a:ext cx="1528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185"/>
                </a:solidFill>
                <a:latin typeface="Gill Sans MT"/>
              </a:rPr>
              <a:t>LE  EMISION  QUI  AIME  EST  ,,LA  FRANCE  A  UN INCOROYABLE  TAL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31" name="Content Placeholder 1" descr=""/>
          <p:cNvPicPr/>
          <p:nvPr/>
        </p:nvPicPr>
        <p:blipFill>
          <a:blip r:embed="rId1"/>
          <a:stretch/>
        </p:blipFill>
        <p:spPr>
          <a:xfrm rot="2068200">
            <a:off x="-1440" y="1802880"/>
            <a:ext cx="2425680" cy="1636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"/>
          <p:cNvPicPr/>
          <p:nvPr/>
        </p:nvPicPr>
        <p:blipFill>
          <a:blip r:embed="rId2"/>
          <a:stretch/>
        </p:blipFill>
        <p:spPr>
          <a:xfrm>
            <a:off x="457200" y="4567320"/>
            <a:ext cx="3124080" cy="2292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3" descr=""/>
          <p:cNvPicPr/>
          <p:nvPr/>
        </p:nvPicPr>
        <p:blipFill>
          <a:blip r:embed="rId3"/>
          <a:stretch/>
        </p:blipFill>
        <p:spPr>
          <a:xfrm rot="1650600">
            <a:off x="6360840" y="2026800"/>
            <a:ext cx="2413080" cy="21668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" descr=""/>
          <p:cNvPicPr/>
          <p:nvPr/>
        </p:nvPicPr>
        <p:blipFill>
          <a:blip r:embed="rId4"/>
          <a:stretch/>
        </p:blipFill>
        <p:spPr>
          <a:xfrm>
            <a:off x="2362320" y="1652760"/>
            <a:ext cx="4419360" cy="2914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5"/>
          <a:stretch/>
        </p:blipFill>
        <p:spPr>
          <a:xfrm>
            <a:off x="5789520" y="4567320"/>
            <a:ext cx="3348000" cy="22921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"/>
          <p:cNvPicPr/>
          <p:nvPr/>
        </p:nvPicPr>
        <p:blipFill>
          <a:blip r:embed="rId6"/>
          <a:stretch/>
        </p:blipFill>
        <p:spPr>
          <a:xfrm>
            <a:off x="3352680" y="4567320"/>
            <a:ext cx="24386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192"/>
                </a:solidFill>
                <a:latin typeface="Gill Sans MT"/>
              </a:rPr>
              <a:t>PARCE  QUE   CETTE  EMISION  EST   TRES  INTERESSANTE   PARCE QUE  LE FRANCAIS   ZIEUTER  AVEC  PLASER  A CETTE  EMISION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38" name="Content Placeholder 1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594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Bia</cp:lastModifiedBy>
  <dcterms:modified xsi:type="dcterms:W3CDTF">2011-10-29T12:59:1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